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C39-7DD5-4791-9E4B-B73DA896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DC8-736E-4BF7-B9C5-2D66E817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55E-5E77-4B7D-B1AE-FB285CB9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94C-ADFE-40D4-8B2A-8D0C6A44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6F5-B3EF-4689-AABB-1CF4F719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A73-8105-4161-9CD2-58CE566F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55C-1BB9-428C-AD12-41B1C715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177-3318-4D49-882C-BAE03735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332-33A0-4541-A5D0-EE0191CA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60D-D9E0-4770-B5EF-6D9FC89A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F7E-ADDB-4ACA-B64D-D4BD06C0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006-F2FF-4E2A-81C9-46273797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2772-351E-4DFA-ABC6-C9D47EF18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822240" y="492120"/>
            <a:ext cx="103489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said that He was the _____, the ______, and the _____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way, truth,</a:t>
            </a:r>
            <a:r>
              <a:rPr b="0" lang="en-US" sz="4800" spc="-1" strike="noStrike">
                <a:solidFill>
                  <a:srgbClr val="ffffff"/>
                </a:solidFill>
                <a:latin typeface="Helvetica Neue"/>
              </a:rPr>
              <a:t> lif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said no one could come to the _______ except through Him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Fa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True or false? There are lots of ways to get to Heaven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fal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Many people in the world don’t believe in _____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Go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Many people believe that you can get to Heaven by being ______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goo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63280" y="11336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knew He was going to _____ soo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Many people believe that all religions have some ______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trut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wants us to _____ others about Him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t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454040" y="1347840"/>
            <a:ext cx="92808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God sent Jesus to save us because He ______ us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066400" y="2128320"/>
            <a:ext cx="794412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lov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822240" y="492120"/>
            <a:ext cx="103489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24000" y="2157480"/>
            <a:ext cx="794376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di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Shape, rectang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12198240" cy="689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31720" y="847440"/>
            <a:ext cx="921204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planned to die on a cross to pay for our _____.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Logo&#10;&#10;Description automatically generated"/>
          <p:cNvPicPr/>
          <p:nvPr/>
        </p:nvPicPr>
        <p:blipFill>
          <a:blip r:embed="rId2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24000" y="2157480"/>
            <a:ext cx="794376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si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60520" y="1324080"/>
            <a:ext cx="1095840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rose again to show that He had defeated ______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24000" y="2157480"/>
            <a:ext cx="794376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death, sin, </a:t>
            </a:r>
            <a:r>
              <a:rPr b="0" lang="en-US" sz="4800" spc="-1" strike="noStrike">
                <a:solidFill>
                  <a:srgbClr val="ffffff"/>
                </a:solidFill>
                <a:latin typeface="Helvetica Neue"/>
              </a:rPr>
              <a:t>h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77800" y="1118880"/>
            <a:ext cx="10925280" cy="15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Jesus said He was going to ______ to prepare a place for us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-115920" y="-47520"/>
            <a:ext cx="12310920" cy="6910200"/>
          </a:xfrm>
          <a:prstGeom prst="rect">
            <a:avLst/>
          </a:prstGeom>
          <a:solidFill>
            <a:srgbClr val="6366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24000" y="2157480"/>
            <a:ext cx="794376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Calibri"/>
              </a:rPr>
              <a:t>Heave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Logo&#10;&#10;Description automatically generated"/>
          <p:cNvPicPr/>
          <p:nvPr/>
        </p:nvPicPr>
        <p:blipFill>
          <a:blip r:embed="rId1"/>
          <a:stretch/>
        </p:blipFill>
        <p:spPr>
          <a:xfrm>
            <a:off x="9080640" y="5207040"/>
            <a:ext cx="3014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05T02:30:05Z</dcterms:created>
  <dc:creator/>
  <dc:description/>
  <dc:language>en-US</dc:language>
  <cp:lastModifiedBy>word</cp:lastModifiedBy>
  <dcterms:modified xsi:type="dcterms:W3CDTF">2023-09-21T21:01:07Z</dcterms:modified>
  <cp:revision>1341</cp:revision>
  <dc:subject/>
  <dc:title>PowerPoint Presentation</dc:title>
</cp:coreProperties>
</file>